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CDD-AF9B-46FE-833C-0747BFBA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35D-D9BF-4C48-95DF-8BC21C4A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E3C-DCA8-46F3-B358-61D33BF6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5D3-E1B3-4468-87DA-0ADB4C5E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A07F-EE33-421C-B803-F2696DB1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CFE4-1AC8-49F8-B257-56FE2318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4792-A94C-450F-B179-EB2393A4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C933-8604-4DA0-9E85-A154E2AC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4435-8E54-4176-8E82-0AED42C5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42F5-F09E-41CB-9F61-1BC2E676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026A-ECC9-4958-B923-18805C6B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FF8-0A16-480B-B7A9-3C4D28F9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C6E9-F2B1-4499-877E-739BBB22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AE9B-4855-4AB7-A005-65F35ED4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F4B9-F25A-4DFC-82CF-8744B666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2576-E1F3-44CB-AD35-30C6CB47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FE10-4C43-4CB6-AEC1-0898F255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7C0D5-B83F-4667-99D1-806271B3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78FA7-5134-4CA1-B735-31620CCD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1321A-89E5-4623-8A3C-B535F3B1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83507-7883-44EC-A87D-5E0C8981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CB577-3C4E-4CD9-A725-5A93BE78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99F-F694-4760-B4A9-FC120354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CC30E-9F36-41FA-BE6F-19B3F87A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AFA32-2081-4A7B-B6FD-786E53A1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051C0-63D0-4892-8E7A-D80A8CFC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C1049-7951-4F43-B163-1FE17EF0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02A57-6858-4290-9FB9-5254063F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FCC51-EA20-49FE-9EF6-80D49C18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31EE7-5A46-447C-BBF2-BCC83AE1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5B7A2-DAB1-4F8A-841B-7F21B6EA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73492-1CD7-4E08-80A2-FB75EC3A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85F65-B9D9-4396-8E12-AA0ABB60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FD2-7C27-423E-B7DC-E0AF2FCB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3A69D-F916-45D8-A7C9-6457F308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88897-9480-43C9-A01D-4C076567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6E1E0-0E81-4977-B54A-AAA25467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84D13-1EA9-4B3D-8E94-3E8E3B3C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251A0-0B90-482E-8E1B-6B1EEA28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D821A-4462-46D4-A85B-97866796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64C49-1949-4757-8696-833E578A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7DA2B-8492-418F-8B8C-1D607B3F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2E8E-8769-4DD4-A382-B8B42277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F03-C9C7-47E3-B630-ECBE4285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DAF-5EC4-4B0B-8805-5453DD3D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EA2-70F3-4878-A85F-27B29786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343-D02D-422E-B2C8-1C19465C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ECD-265A-48A0-BE13-CD2197D5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B2A4-2548-41F8-814D-41FF67837474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CE15-D5E0-4455-870D-AA883C5D115F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03AC-B3DB-4910-A55C-F9100E30BD62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B816-9D5C-48A7-96FD-FEC03676B366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rwMWPLlQ3nXfGM&amp;tbnid=12qTD16l8kHpgM:&amp;ved=0CAUQjRw&amp;url=http%3A%2F%2Fwww.city-data.com%2Fforum%2Fphotography%2F493951-balloons-hot-air-balloons-2.html&amp;ei=Wj41Uey4L5O40QGRkIC4CQ&amp;bvm=bv.43148975,d.dmQ&amp;psig=AFQjCNFhXrzpqKqTtYkZbe5dK9pJjVPAwA&amp;ust=136253023470406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BYwyKmzEJ9d9tM&amp;tbnid=lZTBywHJcXgl7M:&amp;ved=0CAUQjRw&amp;url=http%3A%2F%2Fwww.kalipedia.com%2Fecologia%2Ftema%2Fequivalencia-escalas.html%3Fx%3D20070924klpcnafyq_21.Kes%26ap%3D0&amp;ei=Fz81UbPdIeu30AGR0IDIDg&amp;bvm=bv.43148975,d.dmQ&amp;psig=AFQjCNGCuxyZsz9CxctAiIFS1wC7Oi9DVw&amp;ust=1362530445848583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7_iZK3UNdpZ0SM&amp;tbnid=E8PCK6bM1Q2jKM:&amp;ved=0CAUQjRw&amp;url=http%3A%2F%2Fandeducation.co.uk%2FScience-Active%2Fmatterweb%2Fparticles.htm&amp;ei=lz01UcG6DIrL0wGQhoC4Bg&amp;bvm=bv.43148975,d.dmQ&amp;psig=AFQjCNFgEzdZ3JKyVsa-ligIvyhXBARoGQ&amp;ust=1362529989151435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bxJ0Tjr3_ePdSM&amp;tbnid=LLzAoqUYOjJyNM:&amp;ved=0CAUQjRw&amp;url=http%3A%2F%2Fen.wikipedia.org%2Fwiki%2FBrownian_motion&amp;ei=wT81Udr_BurB0QHdv4CYAQ&amp;psig=AFQjCNF1bNZsM4ggpk6lcfDo2IHQDHyh-A&amp;ust=1362530607519517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itannica.com/EBchecked/media/95584/The-atmospheres-of-planets-in-the-solar-system-are-composed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hapter 10</a:t>
            </a:r>
            <a:endParaRPr b="0" lang="en-US" sz="44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Microsoft Sans Serif"/>
              </a:rPr>
              <a:t>The Kinetic Theory of Matter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Microsoft Sans Serif"/>
              </a:rPr>
              <a:t>Kinetic Models of Liquids and Solids</a:t>
            </a:r>
            <a:endParaRPr b="0" lang="en-US" sz="36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0210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nterparticle forces in a liquid maintain their volume, but not their shap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particles of a liquid can slide past each other, but they are so close together that they don’t move straight or smooth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trong forces between particles explain the rigid structure of solid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is arrangement is called a crystal lattice</a:t>
            </a:r>
            <a:r>
              <a:rPr b="0" i="1" lang="en-US" sz="26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Particles of a solid cannot move past each other, but they bounce off of one anothe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Other Forms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Materials called liquid crystals lose their rigid organization in only one or two dimensions when they melt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terparticle forces are relatively weak, and they can flow like a liquid when the lattice is broken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n amorphous materia</a:t>
            </a:r>
            <a:r>
              <a:rPr b="0" i="1" lang="en-US" sz="2600" spc="-1" strike="noStrike">
                <a:solidFill>
                  <a:srgbClr val="000000"/>
                </a:solidFill>
                <a:latin typeface="Microsoft Sans Serif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 has a haphazard, disjointed, and incomplete crystal lattice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 plasma is an ionized gas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t can conduct electrical current, but it is electrically neutral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y is the air inside a hot air balloon heated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41" name="Picture 5" descr="http://www.city-data.com/forum/attachments/photography/44958d1247413674-balloons-hot-air-balloons-balloon-pics-0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200400"/>
            <a:ext cx="40273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emperature and Kinetic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temperature of a material is a measure of the average kinetic energy of particle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s temperature increases, kinetic energy also increases and vice versa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Could kinetic energy ever be zero?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 temperature at which a substance would have zero kinetic energy is called absolute zero.</a:t>
            </a:r>
            <a:endParaRPr b="0" lang="en-US" sz="2400" spc="-1" strike="noStrike">
              <a:solidFill>
                <a:srgbClr val="53548a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Kelvin scale is defined so that the temperature of a substance is directly proportional to the average kinetic energy of the particl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emperature Conversion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Kelvin to Celsiu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Celsius = Kelvin - 273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elsius to Kelvin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Kelvin = Celsius + 273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46" name="Picture 5" descr="http://www.kalipedia.com/kalipediamedia/cienciasnaturales/media/200709/24/fisicayquimica/20070924klpcnafyq_8.Ees.SC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20968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Mass, Speed and Kinetic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0210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wo gases at the same temperature will have the same kinetic energy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f the gases have the same mass, then they will also travel at the same spee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f one gas is lighter than the other, the lighter gas will travel faster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Diffusion is the process by which particles of matter fill a space because of random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eavier particles diffuse more slowly than lighter one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is the freezing point of water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is the melting point of ice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51" name="Picture 5" descr="http://www.personalrefrigeration.co.uk/images/PR%20images/melting_ice_cubes.jpg"/>
          <p:cNvPicPr/>
          <p:nvPr/>
        </p:nvPicPr>
        <p:blipFill>
          <a:blip r:embed="rId1"/>
          <a:stretch/>
        </p:blipFill>
        <p:spPr>
          <a:xfrm>
            <a:off x="3657600" y="3352680"/>
            <a:ext cx="5067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hange of State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vaporation is the process by which particles of a liquid form a gas by escaping from the surfac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area of the surface, temperature, and humidity affect the rate of evaporation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Liquids that evaporate quickly are volatile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process by which particles of a solid escape from its surface and form a gas is called sublima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54" name="Picture 5" descr="http://www.aboutcivil.org/imajes/evaporation.jpg"/>
          <p:cNvPicPr/>
          <p:nvPr/>
        </p:nvPicPr>
        <p:blipFill>
          <a:blip r:embed="rId1"/>
          <a:stretch/>
        </p:blipFill>
        <p:spPr>
          <a:xfrm>
            <a:off x="4168800" y="4724280"/>
            <a:ext cx="380988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hange of State Continued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ondensation is the process of gas particles coming closer together (condense) and form a liqui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pressure of a substance in equilibrium with it’s liquid is called its vapor press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Volatile substances have high vapor pressur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boiling point of a substance is the temperature of a substance when its vapor pressure equals the pressure exerted on the surface of the liquid (atmospheric pressure)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energy absorbed when 1 kg of a liquid vaporizes at its normal boiling point is called its heat of vaporiza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joule is the SI unit of energy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Heat of vaporization for water is 2.26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Microsoft Sans Serif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Joules/kg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Burns from steam are usually more severe than burns received form hot water.  This is because the steam transfers a great deal of heat to the skin when it condens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ook at the two containers of liquid.  Which container has the greater volume of liquid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ook at the two balloons.  Which balloon has the greater volume of gas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of Vaporiza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much heat is absorbed by 300k of water as it vaporizes at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Microsoft Sans Serif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melting point is the temperature of the solid when its crystal lattice begins to fall apart to become a liqui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temperature of a liquid when it begins to form a crystal lattice and becomes a solid is called its freezing point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energy released as 1 kg of a substance solidifies at its freezing point is called its heat of fusion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heat of fusion for water is 3.34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Microsoft Sans Serif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Joules/kg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of fus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much heat is released by 2.3Kg of water as it solidifies at its freezing point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hange of State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pic>
        <p:nvPicPr>
          <p:cNvPr id="266" name="Content Placeholder 3" descr=""/>
          <p:cNvPicPr/>
          <p:nvPr/>
        </p:nvPicPr>
        <p:blipFill>
          <a:blip r:embed="rId1"/>
          <a:srcRect l="1546" t="2937" r="13323" b="2674"/>
          <a:stretch/>
        </p:blipFill>
        <p:spPr>
          <a:xfrm>
            <a:off x="6172200" y="685800"/>
            <a:ext cx="2755800" cy="2927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101520" y="2666880"/>
            <a:ext cx="58802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hysical Behavior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re is a close relationship between the physical state of a substance and its temperat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You will discover that the state of any matter is determined by the motion of its particles and the attractive forces between them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States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868400"/>
            <a:ext cx="85345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solid is rigid with a definite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olids are rigid because the atoms, ions, or molecules that make up a solid are fixed in place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liquid is flowing matter with a definite volume but an indefinite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A liquid takes the shape of its container because the particles of a liquid can move and easily glide over each other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gas is flowing, compressible matter that has NO definite volume or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he particles that make up a gas are much farther apart, so they can be easily pushed together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22" name="Picture 5" descr="http://andeducation.co.uk/Science-Active/matterweb/img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4876920"/>
            <a:ext cx="5051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he Kinetic Theory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352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constant, random motion of tiny chunks of matter is called Brownian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kinetic theory states that submicroscopic particles of matter are in constant, random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energy of moving objects is called kinetic energy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25" name="Picture 5" descr="http://upload.wikimedia.org/wikipedia/commons/6/6d/Translational_mo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5029200"/>
            <a:ext cx="19382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Kinetic Model of Gase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Gas particles do not lose kinetic energy when they collide with the walls of their container or with another gas particle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ach gas particle rebounds without losing speed but in a new direction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ollisions of particles in a gas are called elastic collisions because no kinetic energy is lost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 gas with particles that are in constant random motion but have no attraction for each other is called an ideal gas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deal gases undergo elastic collisions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Kinetic Model of Gases Continued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924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xcept at very low temperatures or very high pressures, nearly all real gases behave as ideal gase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kinetic theory explains why gases fill their container and why they exert pressure on the walls of the containe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gas particles move randomly in all directions until they strike the walls or other particles and bounce back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44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ry to lift the mat off of the lab table in the back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an you do it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force is acting on the mat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32" name="Picture 5" descr="http://media-2.web.britannica.com/eb-media/98/74598-050-EAACFFD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19720"/>
            <a:ext cx="285768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More on the Kinetic Model of Gase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ressure is the force acting on a unit area of a surface (the force per square centimeter)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arth’s atmosphere, which is a mixture of gases, exerts a press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tmospheric pressure is caused by the constant bombardment of the molecules and atoms in ai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23:23:40Z</dcterms:created>
  <dc:creator>Dawn</dc:creator>
  <dc:description/>
  <dc:language>en-US</dc:language>
  <cp:lastModifiedBy>Dawn</cp:lastModifiedBy>
  <dcterms:modified xsi:type="dcterms:W3CDTF">2014-05-11T22:44:16Z</dcterms:modified>
  <cp:revision>38</cp:revision>
  <dc:subject/>
  <dc:title>Chapter 10</dc:title>
</cp:coreProperties>
</file>